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72D8-C775-4E89-800A-E6D2BE18C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3EF3-454D-4E55-A27A-DFD456220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D605-C583-48A9-A6BC-60DAA1D64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4EAA-F5A3-41B8-8F37-A477FA023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A329-3F48-4498-A39F-CF9FD9533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7B5D-46E4-4553-B274-B08DEDBD0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4B0C-BCC5-4687-ACE4-F6FF1B77A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03C3-C8C4-4598-91E1-ECC32FF60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0E52-7A88-4F9D-8DBF-EE3D8FC4E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5A5D-43CD-4454-8467-8A6D06E25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83E2-18C0-4787-86D1-E724AA23A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2617-66B0-4F28-813E-12CC1325C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E22F-BA21-462F-B394-24F3DEB67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0B11-2594-4608-AB62-6DDC00CD9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3704-4940-4AD1-A2E1-F71374C84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9F96-DB4B-4D81-B832-654EBFE80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1A0A-380D-45FF-A9F3-C4D3949BC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4E6B-4984-4807-B5EA-133FE3D1C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8CD-7A9C-46F8-8EAC-245D021CA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6FF-0C20-402E-8290-221D8587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23A0-0AB6-4C50-AEC2-36698F23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B255-27DE-48D6-985F-D549FF20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8A28-E51C-4958-806E-A7674FC1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48D6-BF89-4189-8349-122BF1D2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1AB7-1BF8-47F5-9C71-BC9F8BB4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AF39-CC31-431D-A2AC-AB1B9150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C7BF-3A6A-4331-A2D6-2823786C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9E3F-35EC-4E3A-84EB-9D647B62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37EA-B0D3-4E22-986D-A8603808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8191-0D19-4CC5-8507-0ABCBA65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7AA3-B015-485D-92FA-EA5E8646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6A1D-64B6-4A44-B296-A3914DB6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3B2E-0E3B-483A-AA28-AB75DACA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11A68-92E1-40C6-A829-9CD9172B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AF5C-90B6-4468-A06D-BE2D6514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791-A97D-4A56-905B-84BD91BF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F32D-748E-456C-B6C0-F9F00B57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A48-F3AA-4A18-8341-B9C05956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0E0F-332C-490C-A19E-5F463A24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3D2B-A05D-46F5-9EA3-DA36CBA2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E54-9302-4FC9-A84C-ECFACD8D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DA31-D3DE-41E8-9B4F-E05C9841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ABCF-FED0-492E-903C-96F410F70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83B3-314A-4050-95BF-685A8F52A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Hispanic Literatu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story and Backgroun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hicano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e term used solely in reference to people of Mexican des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quistadors called Mexican Indian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xica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ards dropped th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lled them Xicanos (or Chica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hicano</a:t>
            </a:r>
            <a:r>
              <a:rPr b="1" lang="ja-JP" sz="4400" spc="-1" strike="noStrike">
                <a:solidFill>
                  <a:srgbClr val="996600"/>
                </a:solidFill>
                <a:latin typeface="Times New Roman"/>
              </a:rPr>
              <a:t>”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me popular in 1930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40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s a derogatory term for Mexicans imported for cheap field la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 went out of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60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and 70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the Brown Power Movement adopted it as term for Mexican-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term still has negative connotations for many Mexican-Ame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History of Latino       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iteratu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s in legend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as o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s to the Catho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gion of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054760" y="533520"/>
            <a:ext cx="4089240" cy="57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tino Literatur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the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762120" y="2571840"/>
            <a:ext cx="66294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milial relationships and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yal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der ro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cial protes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Exploi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5257800" y="3429000"/>
            <a:ext cx="3124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Why Poverty?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verty is largely at issue because of the desperate situations in which many Latin American countries find themsel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952880" y="3429000"/>
            <a:ext cx="3124440" cy="2082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2590920" y="4038480"/>
            <a:ext cx="190476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Why Families?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 is considered one's strongest bond and loyalty, and people in the workforce must often work to support relatives both in the U.S. and in other native count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4724280" y="373392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Why gender roles?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ly, older customs and cultural traditions prevail. Women were expected to be obedient and uphold the family ho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2819520" y="4038480"/>
            <a:ext cx="1981080" cy="1658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5715000" y="3200400"/>
            <a:ext cx="2457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Why social protest and exploitation?</a:t>
            </a:r>
            <a:br>
              <a:rPr sz="4400"/>
            </a:b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Hispanic countries have gone through periods of social un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ba =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ican Republic = dictato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057400" y="4648320"/>
            <a:ext cx="1346040" cy="1612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3352680" y="4800600"/>
            <a:ext cx="2184480" cy="1344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3"/>
          <a:stretch/>
        </p:blipFill>
        <p:spPr>
          <a:xfrm>
            <a:off x="5486400" y="4495680"/>
            <a:ext cx="248904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onclus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 literature is rich with culture and social comment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panic literary themes echo American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s are based on life exper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use term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n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terchangeab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tino v. Hispanic v.Chicano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ja-JP" sz="31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 the right term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38098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                 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tino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es from Ita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in in the base language of Spanish, Italian, Portuguese, and Fre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in Spanish the word for cave is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e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n Portuguese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alian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88092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tins (aka Romans) invaded the Iberian Penins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ed a province name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d t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centu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d in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(Sp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3886200" y="2514600"/>
            <a:ext cx="480060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tin America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 America is a geographic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from Latin America are all Latin, but not all Hisp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Brazilians speak Portuguese, making them Latin not Hispa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951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ja-JP" sz="4400" spc="-1" strike="noStrike">
                <a:solidFill>
                  <a:srgbClr val="9966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atino/a</a:t>
            </a:r>
            <a:r>
              <a:rPr b="1" lang="ja-JP" sz="4400" spc="-1" strike="noStrike">
                <a:solidFill>
                  <a:srgbClr val="996600"/>
                </a:solidFill>
                <a:latin typeface="Times New Roman"/>
              </a:rPr>
              <a:t>”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67080" y="990360"/>
            <a:ext cx="4114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n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s we -- Americans-- use it) encompasses all citizens of the United States whose heritage is Mexican, Puerto Rican, Cuban, Central American, and South Ameri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Hispanic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later used to refer to all territories conquered by Spain in the New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vers almost all of Latin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590920" y="3962520"/>
            <a:ext cx="32763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-16048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685800"/>
            <a:ext cx="4647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me about in the 1970s as a US Census attempt to quantify Spanish-speaki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Hispanic is used to refer to any people whose culture and heritage have direct ties to S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3656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99540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 is not a RACE but an ETHNIC disti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panics come from all races and physical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438280" y="3124080"/>
            <a:ext cx="59565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5:34:44Z</dcterms:created>
  <dc:creator>Media Productions</dc:creator>
  <dc:description/>
  <dc:language>en-US</dc:language>
  <cp:lastModifiedBy>Troy Rivera</cp:lastModifiedBy>
  <dcterms:modified xsi:type="dcterms:W3CDTF">2014-03-10T16:34:46Z</dcterms:modified>
  <cp:revision>9</cp:revision>
  <dc:subject/>
  <dc:title>Latin American Literature</dc:title>
</cp:coreProperties>
</file>